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5AAC-6D24-4317-8630-A87FB599B3A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2A65-F1D1-4F42-93C9-B2DB5C003DB5}" type="slidenum">
              <a:rPr b="0" lang="en-A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E46E-7339-4FC0-A0B8-E26827367826}" type="slidenum">
              <a:rPr b="0" lang="en-A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A3D7-F39A-4C07-82D1-5EE783A630B6}" type="slidenum">
              <a:rPr b="0" lang="en-A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70F5-1EAB-454D-8950-68E4DBF081B6}" type="slidenum">
              <a:rPr b="0" lang="en-A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1BFE-02B2-4DB4-A73B-9718E76A01D7}" type="slidenum">
              <a:rPr b="0" lang="en-A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29DA-0CEE-42C0-8156-82742ED0DEA9}" type="slidenum">
              <a:rPr b="0" lang="en-A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2C65-B23F-4D8D-A5F3-6B94EE2BA891}" type="slidenum">
              <a:rPr b="0" lang="en-A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8F41-A21F-40A2-8FE9-96F13E854DB6}" type="slidenum">
              <a:rPr b="0" lang="en-A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50EA-22C1-4BBA-824C-B6C178E5EA8F}" type="slidenum">
              <a:rPr b="0" lang="en-A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8157-10E0-4B22-B6AA-905E5515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DDCC-23A0-41CE-9024-C57F800E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411D-F3B3-4629-A2CA-1DC1B20C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6DB4-467C-4C83-AE6A-7A3CF128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23E9-2360-4E7D-BC97-71C36947F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A585-1A5A-427F-8733-8396FC0D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DEAB-54AF-4ADE-92A1-FDF4EDCF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54AB-746A-4645-ADF8-E8C75B76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33D9-9255-433E-A395-A7253026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FCCF-8BED-4F57-9E47-5241B19E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A6FB-22EB-4281-B788-A59F0CEB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62FF-02F9-47BB-925C-37FD2C8B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EA43-FEF7-40C7-9914-CDF98D27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7DE0-4423-4797-BAE6-0D6066FB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9B79-5C79-40C2-A20C-8719EDF2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B9E4-384D-4527-BA0A-D96A23B3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F55C-3315-4AEC-8432-1DB1926A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2458-7103-4458-B727-E694623E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8D85-B230-4781-B278-93850894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60FF-F977-4549-8C03-A9DFBA95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5B1A-9587-42BE-A56E-2774D8D6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3058-137E-404D-8F83-0AE6BBAC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4ACE-764C-4503-A401-C1023CDD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9491-1732-4022-BF16-B2260B54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35BB-99E7-4ED8-A718-3F031C03E1E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00B9-D87E-4A11-8AFF-BFF6CB588476}" type="slidenum"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8f8f8"/>
                </a:solidFill>
                <a:latin typeface="Tahoma"/>
              </a:rPr>
              <a:t>KORE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Tahoma"/>
              </a:rPr>
              <a:t>THE COLD WAR BEYOND EUROP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 COST IN HUMAN LIF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685800" y="1754280"/>
          <a:ext cx="7772400" cy="41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4280"/>
                    <a:ext cx="7772400" cy="41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By 1950 had Containment worked??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Most Americans agreed with containing communism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Some wanted a more aggressive policy like MacArthu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More alliances were set up that were anti-Communis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 KOREAN W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http://korea50.army.mil/graphics/soldier_comforting.jpg"/>
          <p:cNvPicPr/>
          <p:nvPr/>
        </p:nvPicPr>
        <p:blipFill>
          <a:blip r:embed="rId1"/>
          <a:stretch/>
        </p:blipFill>
        <p:spPr>
          <a:xfrm>
            <a:off x="1600200" y="1071720"/>
            <a:ext cx="4952880" cy="367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380880" y="480060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A grief stricken American infantryman whose buddy has been killed in action is comforted by another soldier. In the background a corpsman methodically fills out casualty tags, Haktong-ni area, Korea. August 28, 1950. Sfc. Al Chang. (Army)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MAP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http://www.koreanwar.org/html/maps/map1_full.jpg"/>
          <p:cNvPicPr/>
          <p:nvPr/>
        </p:nvPicPr>
        <p:blipFill>
          <a:blip r:embed="rId1"/>
          <a:stretch/>
        </p:blipFill>
        <p:spPr>
          <a:xfrm>
            <a:off x="457200" y="12600"/>
            <a:ext cx="82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3"/>
          <p:cNvSpPr txBox="1"/>
          <p:nvPr/>
        </p:nvSpPr>
        <p:spPr>
          <a:xfrm>
            <a:off x="609480" y="457200"/>
            <a:ext cx="2219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IMELINE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93640" y="1260360"/>
            <a:ext cx="7940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8f8f8"/>
                </a:solidFill>
                <a:latin typeface="Times New Roman"/>
              </a:rPr>
              <a:t>1945 – Korea controlled by Japa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8f8f8"/>
                </a:solidFill>
                <a:latin typeface="Times New Roman"/>
              </a:rPr>
              <a:t>Soviets occupied the NORTH, America the SOUTH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Times New Roman"/>
              </a:rPr>
              <a:t>The two halves were divided  by the 38</a:t>
            </a:r>
            <a:r>
              <a:rPr b="0" lang="en-GB" sz="2800" spc="-1" strike="noStrike" baseline="30000">
                <a:solidFill>
                  <a:srgbClr val="f8f8f8"/>
                </a:solidFill>
                <a:latin typeface="Times New Roman"/>
              </a:rPr>
              <a:t>th</a:t>
            </a:r>
            <a:r>
              <a:rPr b="0" lang="en-GB" sz="2800" spc="-1" strike="noStrike">
                <a:solidFill>
                  <a:srgbClr val="f8f8f8"/>
                </a:solidFill>
                <a:latin typeface="Times New Roman"/>
              </a:rPr>
              <a:t> Paralle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Times New Roman"/>
              </a:rPr>
              <a:t>1947 – elections held in the South supported by the US; The North had its own govt. backed by the Soviet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8f8f8"/>
                </a:solidFill>
                <a:latin typeface="Times New Roman"/>
              </a:rPr>
              <a:t>Each government claimed to be the rightful rulers of Kore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8f8f8"/>
                </a:solidFill>
                <a:latin typeface="Times New Roman"/>
              </a:rPr>
              <a:t>Each side was supported by the respective superpower even though they withdrew troops in 1948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762120" y="1600200"/>
            <a:ext cx="76960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1949 – China became Communist – supported N Kore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1950 – N Korea invaded S Korea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Sept 1950 – UN troops into S Korea at INCH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N Koreans pushed back into N Kore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Oct 1950 Chinese invaded N Kore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UN troops pushed back to S Kore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1950-51 – STALEMATE around 38</a:t>
            </a:r>
            <a:r>
              <a:rPr b="0" lang="en-GB" sz="2400" spc="-1" strike="noStrike" baseline="30000">
                <a:solidFill>
                  <a:srgbClr val="f8f8f8"/>
                </a:solidFill>
                <a:latin typeface="Times New Roman"/>
              </a:rPr>
              <a:t>th</a:t>
            </a: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 Paralle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April 1951 – MacArthur removed from position – replaced by General Omar Bradle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WordArt 3"/>
          <p:cNvSpPr txBox="1"/>
          <p:nvPr/>
        </p:nvSpPr>
        <p:spPr>
          <a:xfrm>
            <a:off x="609480" y="457200"/>
            <a:ext cx="2219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IMELINE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609480" y="457200"/>
            <a:ext cx="2219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IMELINE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838080" y="1447920"/>
            <a:ext cx="7086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Fighting continued until 195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1952 – Truman replaced by Eisenhow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1953 – Stalin died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July 1953 - Armistice signed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2"/>
          <p:cNvGraphicFramePr/>
          <p:nvPr/>
        </p:nvGraphicFramePr>
        <p:xfrm>
          <a:off x="380880" y="571680"/>
          <a:ext cx="8534520" cy="58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71680"/>
                    <a:ext cx="8534520" cy="58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76320">
            <a:solidFill>
              <a:srgbClr val="f8f8f8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8080"/>
                </a:solidFill>
                <a:latin typeface="Tahoma"/>
              </a:rPr>
              <a:t>The Key Playe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76320">
            <a:solidFill>
              <a:srgbClr val="f8f8f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Tahoma"/>
              </a:rPr>
              <a:t>Truma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Tahoma"/>
              </a:rPr>
              <a:t>Syngman Rhee – SK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Tahoma"/>
              </a:rPr>
              <a:t>U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Tahoma"/>
              </a:rPr>
              <a:t>MacArthu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Tahoma"/>
              </a:rPr>
              <a:t>Bradley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91120"/>
          </a:xfrm>
          <a:prstGeom prst="rect">
            <a:avLst/>
          </a:prstGeom>
          <a:noFill/>
          <a:ln w="76320">
            <a:solidFill>
              <a:srgbClr val="f8f8f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Tahoma"/>
              </a:rPr>
              <a:t>Kim Il Sung - NK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Tahoma"/>
              </a:rPr>
              <a:t>Mao Tse Tung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Tahoma"/>
              </a:rPr>
              <a:t>Stali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WHO WON???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S KOREA REMAINED ‘FREE’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Containment had worke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Korea badly damage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The human cos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Still two separate states today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Still US troops in Kore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2:24:45Z</dcterms:created>
  <dc:creator>DCrowe</dc:creator>
  <dc:description/>
  <dc:language>en-US</dc:language>
  <cp:lastModifiedBy>SHCMS</cp:lastModifiedBy>
  <dcterms:modified xsi:type="dcterms:W3CDTF">2010-03-02T01:40:26Z</dcterms:modified>
  <cp:revision>13</cp:revision>
  <dc:subject/>
  <dc:title>THE KOREAN WAR</dc:title>
</cp:coreProperties>
</file>